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3418-0823-4BBC-9300-DCC9E4BE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96A-4DCE-4066-B3F5-5FD02E7C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268-31CA-4CB9-91F9-32DFC530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11E-6002-4163-BF4F-A728FF7F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FCC-4873-4160-950C-4CE9423D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FA4-A05A-4D8B-9426-E23E51E5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643C-9D09-4DD4-A331-F75541C2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4209-1C4D-45A0-A9C3-9851E6A5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0EF-EC39-4281-83CF-040BD849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03CF-894C-49C6-8ECE-202A4C3B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8B2-D8C9-49A5-989C-F5A85AEA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BEB-A4AE-42DD-8A05-938A91F7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8CD5-86EE-4302-944A-2CBE5166BC92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4076640"/>
            <a:ext cx="5508720" cy="33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900" spc="-1" strike="noStrike">
                <a:solidFill>
                  <a:srgbClr val="ffffff"/>
                </a:solidFill>
                <a:latin typeface="Times New Roman"/>
                <a:cs typeface="????Boutros Rokaa"/>
              </a:rPr>
              <a:t>يا سيدي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00360" y="0"/>
            <a:ext cx="6443640" cy="9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سيِّدي كَمْ كانَ قاسياً مَوتُ صَليبِ العار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قبلَ أنْ يَحمِلَكَ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مَلْتَهُ يا بَار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00360" y="0"/>
            <a:ext cx="6443640" cy="853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أَلتَ ماءً، ذُقْتَ خَلاً ذُقتَ كُلَّ مَرَارْ ،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َالَتْ دِمَاكَ مِنْ حَشاكَ لتَفتَدِي الأَشرار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00360" y="0"/>
            <a:ext cx="6443640" cy="853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َوقَ الصلِّيبِ يا حَبيبي كَمْ لَقِيتَ آلامْ 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ِمَّنْ تَمادَوْا في إِيذَائِكَ وقَدْ غَفَرْتَ آثَام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00360" y="0"/>
            <a:ext cx="6443640" cy="9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سيِّدي كَمْ كانَ قاسياً مَوتُ صَليبِ العار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قبلَ أنْ يَحمِلَكَ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مَلْتَهُ يا بَار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00360" y="0"/>
            <a:ext cx="6443640" cy="713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َل كُلُّ هذا يا إِلَهي كَيْ تُعِيدُني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حِمَاكَ أَحْيا مَعَكَ وتُعَزِّيني،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00360" y="0"/>
            <a:ext cx="6443640" cy="853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لَيْتَ قَلبِي يَدْنُو مِنْكَ فَأَفُوزُ بكَ،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حْيا لأجلِكَ أَمِيناً خَاضِعاً لَكَ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00360" y="0"/>
            <a:ext cx="6443640" cy="9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سيِّدي كَمْ كانَ قاسياً مَوتُ صَليبِ العار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قبلَ أنْ يَحمِلَكَ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مَلْتَهُ يا بَار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20:03:11Z</dcterms:created>
  <dc:creator>Charbel Azar</dc:creator>
  <dc:description/>
  <dc:language>en-US</dc:language>
  <cp:lastModifiedBy>ف</cp:lastModifiedBy>
  <dcterms:modified xsi:type="dcterms:W3CDTF">2006-04-11T20:19:27Z</dcterms:modified>
  <cp:revision>12</cp:revision>
  <dc:subject/>
  <dc:title>Slide 1</dc:title>
</cp:coreProperties>
</file>